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C66E-6C58-4CBC-81C3-AE591C32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BB9-F0A0-45B8-8FD9-8C59F4A8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5B0-D9E5-427D-9DB7-E24E6266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3B1E-0D61-4B8E-936C-CF4C3FA6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C82-7D56-45B0-8A9D-EBFE1B02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BC2-AE19-49C8-B734-313E934A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DE6-E4B8-4BAD-B83B-D80C2A18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BF1-62A9-426B-8545-FA024B1A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2A6A-4ED2-4136-A34C-5DACA5DC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B9B5-C6B9-4561-8255-22F87E1D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9CA-C08A-4E4B-83A6-CD69A224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DEF4-AE75-4F33-A712-44348DA3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FA8F-80A2-4ACF-8194-E54647EAC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karyotes &amp; 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ities &amp;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imilarities in eukaryotes &amp; prokaryotes but not 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s in transcription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62120" y="838080"/>
          <a:ext cx="7696080" cy="52768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rs throughout c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rs in nucle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 type of RNA polymerase u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 types of RNA polymerase, depends on type of ge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rs are less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rs are more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62120" y="838080"/>
          <a:ext cx="7696080" cy="52768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ion is 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ion is slo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osttranscriptional modific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transcriptional modifications (5’ cap, polyA tail,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ron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ns &amp; exon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imilarit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ribosomes can translate mRNA at the same time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s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ribosome encounters STOP codon, release factor binds to A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’ cap involved in ini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438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981080"/>
          <a:ext cx="7772400" cy="3429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ion can occur at same time (and location) as trans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ion in nucleus; translation in cytopla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er trans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wer trans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05:21:29Z</dcterms:created>
  <dc:creator>rubina khan</dc:creator>
  <dc:description/>
  <dc:language>en-US</dc:language>
  <cp:lastModifiedBy>rubina khan</cp:lastModifiedBy>
  <dcterms:modified xsi:type="dcterms:W3CDTF">2013-05-01T20:38:57Z</dcterms:modified>
  <cp:revision>27</cp:revision>
  <dc:subject/>
  <dc:title>Eukaryotes &amp; Prokaryotes</dc:title>
</cp:coreProperties>
</file>